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21F-4114-4A05-8715-9161D841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77D-5B84-4CF3-8261-C2364CA3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B9B-E8E0-428B-9725-36BCA9E5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BFE-2992-4D5F-BD24-9A5A51AC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A7F5-78DA-42F8-B926-A5C88352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B816-2323-4920-96FF-F844EBC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5B5-F35A-411E-BF36-1C4456E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6B83-2EEA-4135-8066-122D0114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928-0BCB-48C3-A768-BBA649A2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4071-9A7B-4C6F-A147-1D9CDA1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C34-2289-4749-B5F4-3672673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F8F-DDC7-49BF-AEA9-A24C9D29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5C4-3FE2-4091-9CA6-48B8BCD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8596-9487-4BB0-95D6-38F6256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830-6572-4706-937C-B9F7568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668C-EAD3-4F87-BEBE-71AC51E5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8BE2-0C12-4541-86EE-4995DB4C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662-2AE2-4298-8F13-98776F0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91B-8CA5-4F43-A989-F59EB5A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293-BB67-438A-8EE0-A66A98CB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116-8959-4FDE-9AF5-279AE5D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E30-B8D1-4ACB-87B6-2D36953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60E-7C26-4527-8078-9587C13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B33-CC6E-41AA-880A-75069A7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A3BE-4AB9-4C7A-AB69-5C133C69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367-159C-4A38-A383-D0445434CB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4/Abraham_Lincoln_head_on_shoulders_photo_portrait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SA_FLAG_4.3.1861-21.5.1861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Image:Confederate_National_Flag_since_Mai_1_1863_to_Mar_4_1865.sv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en.wikipedia.org/wiki/Image:Confederate_National_Flag_since_Mar_4_1865.svg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h. 3: Civil War &amp; Reconstru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3.1:  The Civil War Begin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3280" y="44953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What is President Lincoln’s number one reason for wanting to win this war?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Which four southern states did not secede?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927080"/>
            <a:ext cx="7696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996600"/>
              </a:buClr>
              <a:buFont typeface="Times New Roman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Fighting Begins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pril 1861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. Sumter captured by the Sout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807920" cy="153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ftsumter.jpg (48216 bytes)"/>
          <p:cNvPicPr/>
          <p:nvPr/>
        </p:nvPicPr>
        <p:blipFill>
          <a:blip r:embed="rId2"/>
          <a:stretch/>
        </p:blipFill>
        <p:spPr>
          <a:xfrm>
            <a:off x="2362320" y="266688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t. Sumter after Union surrend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639800"/>
            <a:ext cx="80773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F.  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litical changes to support the war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 writ of habeas cor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s can be imprisoned indefinitely without a trial or charges filed against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ame of “National securi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3.1:  The Civil War Beg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:  What advantages and disadvantages did the North and the South have at the start of the Civil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 algn="ctr">
              <a:buClr>
                <a:srgbClr val="99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Presidential election of 1860! (Republican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0" name="" descr="Image:Abraham Lincoln head on shoulders photo portra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752480"/>
            <a:ext cx="36511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.  Lincoln win presidential election of 1860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04164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3429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2.  Lincoln’s feelings towards slavery…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t it was morally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ng to accept it where it already exist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want it to expand in the new territories (w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-228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B.  How does the South respond to election?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76212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su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f-deter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at they states will not have the right to govern themselv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ern states elect their president, Jefferson Davis, and write their own constitution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ederate State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First national flag of the Confederacy (&quot;the Stars and Bars&quot;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886200"/>
            <a:ext cx="1828800" cy="10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Second national flag of the Confederacy (&quot;the Stainless Banner&quot;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809880"/>
            <a:ext cx="2133360" cy="106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Third national flag of the Confederacy (&quot;The Blood Stained Banner&quot;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5181480"/>
            <a:ext cx="1638360" cy="109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962520" y="502920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6553080" y="3352680"/>
            <a:ext cx="2203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.  Strengths…</a:t>
            </a:r>
            <a:br>
              <a:rPr sz="4000"/>
            </a:b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South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                        </a:t>
            </a: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North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Great Generals and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Stonewall 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Robert E.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tivated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opulation/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lroa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 system/ Legal Tender Act/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nd Strategies/Goals</a:t>
            </a:r>
            <a:br>
              <a:rPr sz="4000"/>
            </a:b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North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                       </a:t>
            </a: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South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siv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aconda p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lit confederacy at the Mississip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capital of Confederacy: Richmond, Virg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of attr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only when conven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capital of Washington, D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01T13:11:09Z</dcterms:modified>
  <cp:revision>25</cp:revision>
  <dc:subject/>
  <dc:title>PowerPoint Presentation</dc:title>
</cp:coreProperties>
</file>